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E420-17AB-4FEE-88E4-41A908461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ACE3-1AEB-492E-B994-0599B891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8EF8-D9FA-4C60-9C7B-1A7020756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7467-9B1F-4C1F-BF43-B5CF44E11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E6A5-53E8-4D80-ACCB-D0B65AF4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EBB2-F0D3-4C74-94BB-7568085A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4A16-CF20-4CF0-87A1-E567C50A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47E7-52C0-4E05-915B-A0D77806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79A3-575D-477F-BCE4-E47BC5D8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7BB4-C9F0-45E7-BE90-86DDB840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528B-6493-4BCD-B33F-3160E9FA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08B0-72B5-4DED-94AA-03B666F8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7003-7FFE-4D9F-88FF-2B5F89D9295C}" type="slidenum">
              <a:rPr b="0" lang="nb-N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FacIC3zFtAI&amp;feature=related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ffffff"/>
                </a:solidFill>
                <a:latin typeface="Arial"/>
              </a:rPr>
              <a:t>Bollywood Nex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Picture 7" descr="Rough-Guide-to-Bollywood_LO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ffffff"/>
                </a:solidFill>
                <a:latin typeface="Arial"/>
              </a:rPr>
              <a:t>Chang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Bollywood is chan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Bollywood movies are becoming more like Hollywood mov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Film kisses used to be banned – now they’re comm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Naked skin is also comm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7" descr="bollywood"/>
          <p:cNvPicPr/>
          <p:nvPr/>
        </p:nvPicPr>
        <p:blipFill>
          <a:blip r:embed="rId1"/>
          <a:stretch/>
        </p:blipFill>
        <p:spPr>
          <a:xfrm>
            <a:off x="5248440" y="1838160"/>
            <a:ext cx="28382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ffffff"/>
                </a:solidFill>
                <a:latin typeface="Arial"/>
              </a:rPr>
              <a:t>What’s the Future for Bollywoo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The future looks bright for Bollywo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Big US film companies such as Warner Bros and Twentieth Century Fox are setting up offices in Ind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YouTube - The Queen of Bollywood -Kajol Devgan part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8" descr="2008_0502_bollywood"/>
          <p:cNvPicPr/>
          <p:nvPr/>
        </p:nvPicPr>
        <p:blipFill>
          <a:blip r:embed="rId2"/>
          <a:stretch/>
        </p:blipFill>
        <p:spPr>
          <a:xfrm>
            <a:off x="4648320" y="1996920"/>
            <a:ext cx="403848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ffffff"/>
                </a:solidFill>
                <a:latin typeface="Arial"/>
              </a:rPr>
              <a:t>By Nina Sandström Angels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Arial"/>
              </a:rPr>
              <a:t>Selbu videregående sk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ffffff"/>
                </a:solidFill>
                <a:latin typeface="Arial"/>
              </a:rPr>
              <a:t>Competence Aims</a:t>
            </a:r>
            <a:br>
              <a:rPr sz="4400"/>
            </a:b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International Englis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ulture, society and lit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aims of the studies are to enable pupils 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analyse and assess the role of some English-language media in international socie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b-NO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lassholder for innhold 7" descr="dl.jpg"/>
          <p:cNvPicPr/>
          <p:nvPr/>
        </p:nvPicPr>
        <p:blipFill>
          <a:blip r:embed="rId1"/>
          <a:stretch/>
        </p:blipFill>
        <p:spPr>
          <a:xfrm>
            <a:off x="4648320" y="1523880"/>
            <a:ext cx="40417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ffffff"/>
                </a:solidFill>
                <a:latin typeface="Arial"/>
              </a:rPr>
              <a:t>Where is Bollywoo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Arial"/>
              </a:rPr>
              <a:t>Bollywood is located in Mumbai in Ind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7" descr="india_country_map"/>
          <p:cNvPicPr/>
          <p:nvPr/>
        </p:nvPicPr>
        <p:blipFill>
          <a:blip r:embed="rId1"/>
          <a:stretch/>
        </p:blipFill>
        <p:spPr>
          <a:xfrm>
            <a:off x="4648320" y="1690560"/>
            <a:ext cx="4038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ffffff"/>
                </a:solidFill>
                <a:latin typeface="Arial"/>
              </a:rPr>
              <a:t>What is Bollywoo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Indian film indus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Produces films in the Hindi langu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In 2006 Bollywood sold a million more tickets internationally than Hollywo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India is the largest movie-producing country in the wor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Produces approximately 900 films annu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Indian movies are increasing in popularity  -  mostly seen by Indians in India and abr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7" descr="bollywood460"/>
          <p:cNvPicPr/>
          <p:nvPr/>
        </p:nvPicPr>
        <p:blipFill>
          <a:blip r:embed="rId1"/>
          <a:stretch/>
        </p:blipFill>
        <p:spPr>
          <a:xfrm>
            <a:off x="4648320" y="2651040"/>
            <a:ext cx="403848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ffffff"/>
                </a:solidFill>
                <a:latin typeface="Arial"/>
              </a:rPr>
              <a:t>The Bollywood Fil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Usually musical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most films have at least one song-and-dance numb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Films often last for 3 hours or mo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Indian audiences want it all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songs and dan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love stor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comed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thrills and excitemen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The plots are often melodramatic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They often contain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Arial"/>
              </a:rPr>
              <a:t>star-crossed lov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Arial"/>
              </a:rPr>
              <a:t>corrupt politici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Arial"/>
              </a:rPr>
              <a:t>twins separated at bir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Arial"/>
              </a:rPr>
              <a:t>conniving villa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Arial"/>
              </a:rPr>
              <a:t>angry par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Arial"/>
              </a:rPr>
              <a:t>courtesans with hearts of gol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Arial"/>
              </a:rPr>
              <a:t>dramatic reversals of fortu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Arial"/>
              </a:rPr>
              <a:t>convenient coincidence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7" descr="BOL_858_1175516279"/>
          <p:cNvPicPr/>
          <p:nvPr/>
        </p:nvPicPr>
        <p:blipFill>
          <a:blip r:embed="rId1"/>
          <a:stretch/>
        </p:blipFill>
        <p:spPr>
          <a:xfrm>
            <a:off x="4648320" y="2968560"/>
            <a:ext cx="403848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ffffff"/>
                </a:solidFill>
                <a:latin typeface="Arial"/>
              </a:rPr>
              <a:t>Singing and Danc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Singing and dancing are important ingredients in Bollywood fil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They comment on the action taking pla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A song is well-integrated into the plot so that a character has a reason to 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Songs often tell about characters’ thoughts or foreshadow events to come in the fil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The event is usually two characters falling in lo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9" descr="aishwarya-rai-bollywood-star-aishwarya-rai-and-abhishekh-bachan-announce-their-engagement-0GrKHc"/>
          <p:cNvPicPr/>
          <p:nvPr/>
        </p:nvPicPr>
        <p:blipFill>
          <a:blip r:embed="rId1"/>
          <a:stretch/>
        </p:blipFill>
        <p:spPr>
          <a:xfrm>
            <a:off x="4648320" y="2192400"/>
            <a:ext cx="403848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ffffff"/>
                </a:solidFill>
                <a:latin typeface="Arial"/>
              </a:rPr>
              <a:t>The ”Item Girl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Most Bollywood films have </a:t>
            </a:r>
            <a:r>
              <a:rPr b="0" i="1" lang="nb-NO" sz="2000" spc="-1" strike="noStrike">
                <a:solidFill>
                  <a:srgbClr val="ffffff"/>
                </a:solidFill>
                <a:latin typeface="Arial"/>
              </a:rPr>
              <a:t>item num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That is a beautiful girl who is not part of the plot or cast of the fil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She sings and da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Usually she wears few clothes so that her lovely body is vi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6" descr="miss-bollywood-shilpa-shetty"/>
          <p:cNvPicPr/>
          <p:nvPr/>
        </p:nvPicPr>
        <p:blipFill>
          <a:blip r:embed="rId1"/>
          <a:stretch/>
        </p:blipFill>
        <p:spPr>
          <a:xfrm>
            <a:off x="4648320" y="2179800"/>
            <a:ext cx="403848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ffffff"/>
                </a:solidFill>
                <a:latin typeface="Arial"/>
              </a:rPr>
              <a:t>What Is Bollywood Dancing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Modern Indian danc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A combination of classical Indian dance + folk danc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It's fun and very expres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There's a lot of deep meaning behind music in the fil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This meaning is expressed through the graceful movements of the body. </a:t>
            </a:r>
            <a:br>
              <a:rPr sz="2000"/>
            </a:b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6" descr="shilpashetty_miss_bollywood"/>
          <p:cNvPicPr/>
          <p:nvPr/>
        </p:nvPicPr>
        <p:blipFill>
          <a:blip r:embed="rId1"/>
          <a:stretch/>
        </p:blipFill>
        <p:spPr>
          <a:xfrm>
            <a:off x="5381640" y="2509920"/>
            <a:ext cx="257184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Looking for Stardo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Bollywood attracts thousands of aspiring actors and actresses, all hoping for a break in the indus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Models and beauty contestants, television actors, theatre actors and even common people come to Mumbai with the hope and dream of becoming a st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Just as in Hollywood very few succeed</a:t>
            </a:r>
            <a:br>
              <a:rPr sz="2000"/>
            </a:br>
            <a:br>
              <a:rPr sz="2000"/>
            </a:b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7" descr="big_2008_calendar01"/>
          <p:cNvPicPr/>
          <p:nvPr/>
        </p:nvPicPr>
        <p:blipFill>
          <a:blip r:embed="rId1"/>
          <a:stretch/>
        </p:blipFill>
        <p:spPr>
          <a:xfrm>
            <a:off x="4648320" y="2138400"/>
            <a:ext cx="403848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na</cp:lastModifiedBy>
  <dcterms:modified xsi:type="dcterms:W3CDTF">2009-08-27T19:35:37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